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1B6-047F-4C07-AF16-7A54D6CA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2F6-3A87-47EB-BB34-335A88BB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9D9F-B039-4672-95D6-BDECDA90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305-1804-4E00-BBAE-520BE697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61A9-2F51-4DB6-A283-81BAD393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3828-C53E-48D7-8C53-97552DB5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CA12-CD62-463C-9FC2-B4F38115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A0FD-BDC5-43F9-AAD1-817AD557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3325-446D-4029-BBF5-2C730606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5B40-A0FE-4BC0-B891-2EE21578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0ECA-BCF9-4289-8630-A30D6F2C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0FF-C7A9-426E-B47C-5FCCDD9B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B69C-1032-4ECE-B0EE-1B8D42D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6A47-67D1-40CB-B438-ED521F73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6FF2-EC08-4A4D-B5AF-E0BF747E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D3C0-C05D-4880-A7F4-C1070EB8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D1DA-CC1E-43B3-98CD-D497CD0D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562-31A3-47B6-95B1-FE1B93A5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D04-E472-445D-B94D-EFF5B589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388-F97E-4ECA-A48B-39F192D6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B4A-2E90-4308-B0EF-FADD6BCD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510-5025-4D8C-83D5-373C71C1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792-76E5-4902-B150-753EEE4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786-95E5-4141-AF20-57C1DB18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B050-C077-4E80-A071-A7B523479CE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55CF-17C6-495A-9EE7-968D24995DF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Group DISCUSSION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4101840" cy="324792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Do`s in group discus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ppropriate to the issue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ake original points &amp; support  them by substantial reasoning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isten to the other participants actively &amp;carefull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ever you say must be with a logical flow,&amp;validate it with an example as far as possibl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ake only accurate  statemen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Do`s in group discussion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dulate the volume, pitch and to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e considerate to the feelings of the other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ry to get your tur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e an active and dynamic participant by listening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alk with confidence and self-assuran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Don’ts during group discus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ing shy /nervous / keeping isolated from G.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terrupting another  participant before his arguments are ov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eak in favour ; example:Establish your position and stand by it stubbornl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anged  opinio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on’t make fun of any participant even if his arguments are funn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8380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on`ts  during group discussion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n’t engage yourself in  sub-group convers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n’t repeat and use  irrelevant material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ddressing yourself to the examin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orrying about making some grammatical mistakes,for your interest  the matter you put across are importan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mportant points in group discus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 assertive: An assertive person is direct , honest careful about not hurting others ‘self-respect’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patient listener: listening to another person is one way of showing apprecia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ight language : Words can make friends &amp; right words at the right time make  the best result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 analytical and fact-oriented : It is necessary to make relevant points which can be supported with facts and analyzed logicall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ccept criticism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f any member of the group criticizes or disapproves  a point,  it is unwise to get upset or react sharpl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 case the criticism is flimsy,the same can be pointed out politel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ximize participation ; one must try to contribute fully, vigorously &amp; steadily throughout the discuss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how leadership ability: A group discussion also evaluates your leadership qualitie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35000" y="990360"/>
            <a:ext cx="8896320" cy="52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ccept someone's  point of vie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aise the argu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ample: Remedial English  communication is necessary for  college students because they fail in communication skill tes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tus of literacy  of women , is increased from 30% to 70% when compared to past years, in employment sectors organized ,in the IT &amp; ITES fiel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35000" y="1143000"/>
            <a:ext cx="889632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ccept the contradicts vie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press your argument  with few facts, cases, %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wspapers  publications et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press without hurting others feeling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35000" y="1294920"/>
            <a:ext cx="88963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ugges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ver try to bluff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actice group discussion with friends on different subjec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member !speech is a powerful weap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Topics of Importance frequently discussed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s India Shin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bile phones / Internet – a boon or nuisan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udents focusing on software industry-good or ba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ild marriag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dia 202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ughters are more caring than so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fluence of western culture in Indian Universit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fluence of computers in medical scien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533520"/>
            <a:ext cx="8885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opic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1294920"/>
            <a:ext cx="8896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finition of Group Discuss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Group Discuss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erequisites of a Group Discuss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nefits in Group Discuss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alient featur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o’s and Don’ts in Group Discuss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mportant points in Group Discuss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ccept criticis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gges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pics of importance frequently discusse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 advTm="7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920" y="0"/>
            <a:ext cx="67816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ank you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105520" y="3389400"/>
            <a:ext cx="3768480" cy="346860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Definition of Group Discus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roup Discussion is a modern method of assessing students personalit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t is both a technique and an art and a comprehensive tool to judge the worthiness of the student and his  appropriateness for the job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Group Discussion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term suggests  a discussion among  a group of person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group will have 8 &amp; 12  members who will express their  views freely, frankly in a friendly manner, on a topic of current issu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ithin a time limit  of 20 to 30 minutes,the abilities of the members of the group is measure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Prerequisites of a Group Discussion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opics given by panelis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lanning and prepar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nowledge with self-confidenc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munication skills/ power of speec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esentation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ody Language and personal appearan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eing calm and cool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Prerequisites of a Group Discussion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tensive knowledge base related to state, country    and glob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reas are  politics,sports,science &amp;trade commerce,Industry and Technology,MNC,ec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nalyze the social,economical issues logistically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istening skil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-oper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enefits in Group discus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imulation of thinking in a new way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pansion of knowled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derstanding  of  your strength and weaknes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ur true personality is revealed and qualities of leadership crystalliz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Benefits of group discussion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ovides  chance to Expo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nguage skil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cademic knowled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eadership skil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eople handling skil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eam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eneral knowledg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60840" y="381636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alient features of G.D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5000" y="1752120"/>
            <a:ext cx="8896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Topic may be given to judge your public speaking talent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Discussion revolves around a specific subject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The examiner does not interfere once he announced the topic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Maintain cordiality and  free expression of thought and opinion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7000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0:09:21Z</dcterms:created>
  <dc:creator/>
  <dc:description/>
  <dc:language>en-US</dc:language>
  <cp:lastModifiedBy>system11</cp:lastModifiedBy>
  <dcterms:modified xsi:type="dcterms:W3CDTF">2008-10-31T17:58:48Z</dcterms:modified>
  <cp:revision>0</cp:revision>
  <dc:subject/>
  <dc:title/>
</cp:coreProperties>
</file>